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0AE-66E9-403F-973A-78EE7E0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A5F-6B3D-4E35-B768-F631013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AFF-A2B7-43B2-9737-5336621F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BC7-CA6C-4F63-BE51-8B4214F5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47D-FD0C-4A96-9DED-EE9779A0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763-CC11-4393-BDBB-5E71019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43B-62A4-4F7E-993D-FAF03CE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D05-F097-4D9E-B861-1C3E367D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3F5-FFE4-4150-B85B-C18C5E62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043-476B-47E9-BFF7-5AC3D63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50F-14D9-4CC3-B0E4-F39F53C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1B5-B4C9-4410-A845-ED76085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4B28-FA3D-4660-8F7F-6C2D82785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18900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0a3</cp:lastModifiedBy>
  <dcterms:modified xsi:type="dcterms:W3CDTF">2012-06-19T11:00:10Z</dcterms:modified>
  <cp:revision>30</cp:revision>
  <dc:subject/>
  <dc:title>SALARIUL</dc:title>
</cp:coreProperties>
</file>